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EEA2-62E5-4FF9-8FDC-C5BD19097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706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B2BD-0B64-471D-85DA-E5326B3F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706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548B-221C-4C9C-A5D1-271516E47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706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706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706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B939-94AB-42CD-8D95-2A650AAF7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61A9-B2A0-47DC-9219-A696AC1E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706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706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706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706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706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706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431F-5D34-4247-A18C-1AC4F989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DDF7-BE47-4F3D-BDBB-A7B23AEB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4981-47AC-4C21-8743-F20860BB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75BC-A120-41E8-9F57-66CEBEA0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4A9E-3000-4736-8744-50875BF5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706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A706-FC23-4A1B-A47B-04AC0963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706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D8E8-290C-49E7-89C9-2EE0D564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"/>
          <p:cNvPicPr/>
          <p:nvPr/>
        </p:nvPicPr>
        <p:blipFill>
          <a:blip r:embed="rId2"/>
          <a:stretch/>
        </p:blipFill>
        <p:spPr>
          <a:xfrm>
            <a:off x="609480" y="990720"/>
            <a:ext cx="8175600" cy="1609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601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lvl="1" marL="987480" indent="-43884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lvl="2" marL="1536120" indent="-21924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lvl="3" marL="1865520" indent="-219240">
              <a:spcBef>
                <a:spcPts val="601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lvl="4" marL="2194560" indent="-219240">
              <a:spcBef>
                <a:spcPts val="601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lvl="5" marL="2194560" indent="-219240">
              <a:spcBef>
                <a:spcPts val="601"/>
              </a:spcBef>
              <a:buClr>
                <a:srgbClr val="3333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lvl="6" marL="2194560" indent="-219240">
              <a:spcBef>
                <a:spcPts val="601"/>
              </a:spcBef>
              <a:buClr>
                <a:srgbClr val="3333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/01/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NTH 6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0C55-BAE4-4796-A5F3-2E905EA68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"/>
          <p:cNvPicPr/>
          <p:nvPr/>
        </p:nvPicPr>
        <p:blipFill>
          <a:blip r:embed="rId2"/>
          <a:stretch/>
        </p:blipFill>
        <p:spPr>
          <a:xfrm>
            <a:off x="609480" y="2286000"/>
            <a:ext cx="8175600" cy="1609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601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lvl="1" marL="987480" indent="-43884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lvl="2" marL="1536120" indent="-21924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lvl="3" marL="1865520" indent="-219240">
              <a:spcBef>
                <a:spcPts val="601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lvl="4" marL="2194560" indent="-219240">
              <a:spcBef>
                <a:spcPts val="601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lvl="5" marL="2194560" indent="-219240">
              <a:spcBef>
                <a:spcPts val="601"/>
              </a:spcBef>
              <a:buClr>
                <a:srgbClr val="3333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lvl="6" marL="2194560" indent="-219240">
              <a:spcBef>
                <a:spcPts val="601"/>
              </a:spcBef>
              <a:buClr>
                <a:srgbClr val="3333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Budgeting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33526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Budgeting is both a planning and controlling tool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Budgetary Process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24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Capital equipment</a:t>
            </a: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  <a:p>
            <a:pPr lvl="1" marL="1028880" indent="-457200">
              <a:spcBef>
                <a:spcPts val="524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Major equipment $1000 with life expectancy of more than 5 years</a:t>
            </a: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  <a:p>
            <a:pPr lvl="1" marL="1028880" indent="-457200">
              <a:spcBef>
                <a:spcPts val="524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Justifications should include composite depreciation rates, operating costs, and life expectancy</a:t>
            </a: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  <a:p>
            <a:pPr marL="457200" indent="-457200">
              <a:spcBef>
                <a:spcPts val="524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Supplies and other expenses</a:t>
            </a: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Budgetary Process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Personnel</a:t>
            </a: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  <a:p>
            <a:pPr lvl="1" marL="1018440" indent="-4525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Largest expense category (education) 85% of total budget</a:t>
            </a: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  <a:p>
            <a:pPr lvl="1" marL="1018440" indent="-4525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Position code</a:t>
            </a: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  <a:p>
            <a:pPr lvl="1" marL="1018440" indent="-4525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Position description</a:t>
            </a: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  <a:p>
            <a:pPr lvl="1" marL="1018440" indent="-4525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Budgeted full-time equivalents (FTEs)</a:t>
            </a: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  <a:p>
            <a:pPr lvl="1" marL="1018440" indent="-4525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#of personnel(hours per position) divided by hours per full time work week</a:t>
            </a: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Budgetary Process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24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Direct Costs</a:t>
            </a: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  <a:p>
            <a:pPr lvl="1" marL="1028880" indent="-457200">
              <a:spcBef>
                <a:spcPts val="524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Salaries, services, contracts, dues&amp; subscriptions, equipment and travel</a:t>
            </a: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  <a:p>
            <a:pPr marL="457200" indent="-457200">
              <a:spcBef>
                <a:spcPts val="524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Indirect Costs</a:t>
            </a: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  <a:p>
            <a:pPr lvl="1" marL="1028880" indent="-457200">
              <a:spcBef>
                <a:spcPts val="524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Charged to department on a formula basis calculated by square footage: utilities, maintenance, housekeeping</a:t>
            </a: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Budget Justification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24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Support or explanatory documentation</a:t>
            </a: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  <a:p>
            <a:pPr lvl="1" marL="1028880" indent="-457200">
              <a:spcBef>
                <a:spcPts val="524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Retain competition, projected patient usage, compatibility with existing equipment, guaranteed service contracts, availability, durability, enhance patient care, attract more patients to facility….</a:t>
            </a: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Development of Fee Schedule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Time unit system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lvl="1" marL="1028880" indent="-45720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15 minute increments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lvl="1" marL="1028880" indent="-45720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Patient visits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Modality based system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lvl="1" marL="1028880" indent="-45720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Cost of service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Reviewed and Approved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Controls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24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How much do we have to spend?</a:t>
            </a: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  <a:p>
            <a:pPr marL="457200" indent="-457200">
              <a:spcBef>
                <a:spcPts val="524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How do these relate to educational outcomes?</a:t>
            </a: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  <a:p>
            <a:pPr marL="457200" indent="-457200">
              <a:spcBef>
                <a:spcPts val="524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Generate income? Offset cost of purchase?</a:t>
            </a: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  <a:p>
            <a:pPr marL="457200" indent="-457200">
              <a:spcBef>
                <a:spcPts val="524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Benchmarking?</a:t>
            </a: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  <a:p>
            <a:pPr marL="457200" indent="-457200">
              <a:spcBef>
                <a:spcPts val="524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Free training provided?</a:t>
            </a: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  <a:p>
            <a:pPr marL="457200" indent="-457200">
              <a:spcBef>
                <a:spcPts val="524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Associated costs?</a:t>
            </a: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  <a:p>
            <a:pPr marL="4572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Plan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Specific statement of anticipated results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i.e. Expected revenue and probable expenses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specific time period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basis for future budget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Tool of Control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Accountability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marL="452520" indent="-452520">
              <a:spcBef>
                <a:spcPts val="601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based upon dept. organization and goals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marL="452520" indent="-452520">
              <a:spcBef>
                <a:spcPts val="601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comparison to delegation of authority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marL="452520" indent="-452520">
              <a:spcBef>
                <a:spcPts val="601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permits comparison of planned with actual performance thus enhancing control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Budget Period is Predetermined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Capital equipment or improvement budget is a long period 3, 5, 10 years; or trust funds - one time large amount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Supplies, expenses and personnel costs - immediate fiscal year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Fiscal year - accounting period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Fiscal Year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May or may not correspond to a calendar year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marL="452520" indent="-452520">
              <a:spcBef>
                <a:spcPts val="601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12 months - 13 equal periods of 28 days each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marL="452520" indent="-452520">
              <a:spcBef>
                <a:spcPts val="601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July 1- June 30 - cycle reflects the teaching year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marL="452520" indent="-452520">
              <a:spcBef>
                <a:spcPts val="601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Semesters - teaching loads and part time needs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Approaches to Budgeting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Incremental - financial data of the past is increased by a given %.  A flat increase over last years allotment.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lvl="1" marL="1028880" indent="-45720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personnel 5%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lvl="1" marL="1028880" indent="-45720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capital 7%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lvl="1" marL="1028880" indent="-457200"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supplies 4%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Incremental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Straightforward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object-oriented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Significant changes, shifting priorities or pressing needs may be overlooked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Planning Programming Budget System (PPBS)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Program outputs are assessed and resource allocation &amp; funding are directly related to program goals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Zero based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Not a one year cycle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Planning Programming Budget System (PPBS)</a:t>
            </a:r>
            <a:endParaRPr b="1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Goals are difficult to make quantifiable with a specific amount attached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Presume that all alternatives are known and attainable 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cc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Verdana"/>
              </a:rPr>
              <a:t>Questions whether programs are viable</a:t>
            </a:r>
            <a:endParaRPr b="1" lang="en-US" sz="32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17:18:06Z</dcterms:created>
  <dc:creator>DBauman</dc:creator>
  <dc:description/>
  <dc:language>en-US</dc:language>
  <cp:lastModifiedBy>Deborah Bauman</cp:lastModifiedBy>
  <dcterms:modified xsi:type="dcterms:W3CDTF">2009-12-10T12:19:34Z</dcterms:modified>
  <cp:revision>5</cp:revision>
  <dc:subject/>
  <dc:title>Clinical Schedul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Files\video_streaming\htmlflatfiles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